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91F-2D5C-406E-9427-DFD42917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4FE-60C9-419B-8896-342BAD05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932-D1ED-464C-A1DF-4A754BC3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676-B193-494B-AA5F-E1F268F8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DFBA-21B3-4648-897E-37540AA1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85C-C9AB-4FDC-8BED-946DDCC7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5DB-6684-4526-A76B-D3079DD2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B036-29EE-41CF-8076-CE68225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0DA9-E06D-4585-9428-9BBA91CD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AAB7-1CAB-4AD6-85AC-66CE89E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65FA-258C-497D-9F50-C5247C5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C9C-C5AA-4D8A-BA47-2DF66118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89AC-4523-4082-B1F5-E6EA120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378-DDFD-4E27-B1DF-E325A6B1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7B03-5532-4654-982C-395FDF36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F4D-089B-433D-A9B2-54D7B71B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884E-C6C4-4F58-89E3-F1A2B794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9FD-0A74-4733-A29F-F05BCA80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4F2-FDF8-44FB-9897-0070213A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18A-E635-4AE4-A5C2-BB94F231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14D-2014-4412-BE79-488A108A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264-D9C8-4E4A-B191-3469080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910-32D2-4EDB-BCDD-4395E41B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7C8-AB4D-422A-B3EC-6C6177DC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CD86-EA6E-40E0-A026-A371F55C8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5A86-54E7-4AC9-BD11-10457C3BF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w to Improve Your Introduction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ttracts the reader's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the reader with background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focuses the reader's attention on the main idea of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 Tip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esis statement generally consists of two parts: your topic, and then the analysis, explanation(s), or assertion(s) that you're making about the topi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hesis statement is a ve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-- it should cover only what you want to discuss in your paper, and be supported with specific evid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you write and revise your paper, it's okay to change your thesis statement.  Just make sure that your "final" thesis statement accurately shows what will happen in your pap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Essay-ese (structure without conten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n this essay I am going to relate a significant experience that changed my life.  I am going to tell how my life was before the experience happened and discuss how my life changed as a result of the experience.  Then I am going to evaluate the long term impact that the experience had on my life.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ransition to 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ition from body of introduction paragraph to the the thesis of the pa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Thes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tural tran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body of the introduction to your th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dentify one side of the top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sis/asser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your are making about that top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on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ver mat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will be addressed and supported with specific evidence in your pap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say-e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sis Stateme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thesi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vergeneraliz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overgeneraliz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use the words “similar”, “different”, “compare”, or “contrast” in your thesis statement without prior approv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urpose of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oduction serves as A CONTRACT between a writer and his or her read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introduction, a writer makes specific commitments that must then be fulfill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introduction m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 commit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what the paper will be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 introduction 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 foc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vide the reader with an accurate expect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what your paper’s cont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al of Introduct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a good introduction accomplishes three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ttracts the reader's inter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the reader with background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focuses the reader's attention on the main idea of th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ttracting the Reader’s Intere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ith an attention-getter to introduce readers to the topic and allow them to become interested in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opular attention-getter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ief anecd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rtling fact or a stat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necting the attention-getter to the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ention-getter must have a bridge to the body of the introduction para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5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Attention-Gett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cif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not using pronouns or undefined langu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ie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aking no more than 2-3 sentences, including the bri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attention-gett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ve a brid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rest of the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dy of the Intro Paragrap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e clear and direct (clarity is more important than clevernes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ovide the background information your reader needs to understand your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void trite expressions, such as "In the world today" or "For as long as man has existed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Do not steal from the content of you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End your introduction with a clear statement of your the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8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e Your Intro Bod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s it repetitive, saying the same point more than once in different wording?  Is i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the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oes it provid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ckground 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r reader needs to understand your subj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o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trite express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"In the world today" or "For as long as man has exist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Do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not go into specific details of other paragraph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s you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mmar and wording cl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8:28:10Z</dcterms:created>
  <dc:creator>jgriffin</dc:creator>
  <dc:description/>
  <dc:language>en-US</dc:language>
  <cp:lastModifiedBy>BPS</cp:lastModifiedBy>
  <dcterms:modified xsi:type="dcterms:W3CDTF">2011-06-05T14:48:13Z</dcterms:modified>
  <cp:revision>8</cp:revision>
  <dc:subject/>
  <dc:title>How to Improve Your Introduction Paragraph</dc:title>
</cp:coreProperties>
</file>